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498-27B5-44D3-B44F-E22C618D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BAD-80D0-48AE-9CF7-2350ED45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604-9940-4877-8752-916D0F27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641-5645-43E3-B4C9-6A7634B2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BD3-E1A2-40BB-B955-71CDCCD7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F01-C403-4340-B0C1-2197CA4E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82F-90A9-460D-BD53-F7906A82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DF0-F222-406D-AE26-B021440F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A11-09C3-4132-846F-F5EA06C6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366-AA93-4007-8197-15751F6D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1FF-CD92-41E6-8B7B-020D84CA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2E1-ABEA-40F0-AFA8-FDF88D21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31F3E-6893-4710-A2F2-71321E43F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alent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627200" y="3843360"/>
            <a:ext cx="2502000" cy="2425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6238800" y="384336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611680" y="1663560"/>
            <a:ext cx="2637000" cy="175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660240" y="1531800"/>
            <a:ext cx="39117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1T01:10:00Z</dcterms:created>
  <dc:creator>Nico Van De Casteele</dc:creator>
  <dc:description/>
  <dc:language>en-US</dc:language>
  <cp:lastModifiedBy>Nico Van De Casteele</cp:lastModifiedBy>
  <dcterms:modified xsi:type="dcterms:W3CDTF">2013-11-05T04:52:52Z</dcterms:modified>
  <cp:revision>3</cp:revision>
  <dc:subject/>
  <dc:title>Covalent compounds</dc:title>
</cp:coreProperties>
</file>